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09A4-8EB0-4A42-8841-5B2FD0D3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taken from: http://www.huffingtonpost.com/2014/08/06/ebola-myths_n_565566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46C-0891-4A06-AB86-D3E2E7D0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0EC-5FDD-4CBE-93E6-7CBFCD41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637-1AF3-4772-A468-1F2430D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6ED-7B05-475F-A8C8-6092BA46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AB8-6153-494B-BA48-84F07F5C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831-CB39-4B87-B802-CAF8F20C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9A5-9AF8-4BBE-ACA5-E27F46AE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F23-7DD5-4184-ABB4-99FCB78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AEF-34BD-4062-86FD-E9E4C1DC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D8F-DAA7-47A2-BCFA-AB32A60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F73-F301-44EC-AF02-A56DA19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278-23A3-4556-928A-563307E6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288-8B2D-41F6-99B6-E573A4A8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dc.gov/vhf/ebola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ola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for Diseas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has a detailed website about Ebo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vhf/ebol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21:58:33Z</dcterms:created>
  <dc:creator>rubina khan</dc:creator>
  <dc:description/>
  <dc:language>en-US</dc:language>
  <cp:lastModifiedBy>rubina khan</cp:lastModifiedBy>
  <dcterms:modified xsi:type="dcterms:W3CDTF">2014-09-13T22:12:17Z</dcterms:modified>
  <cp:revision>3</cp:revision>
  <dc:subject/>
  <dc:title>PowerPoint Presentation</dc:title>
</cp:coreProperties>
</file>